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2C1A-A2C0-41BC-8A9B-04684DF91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89FD-D056-4D92-89D9-6EEAE757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0C90-CA65-4EB5-821D-A33139806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290C-F199-4984-97F2-CBB668A4E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B674-78A0-45A5-B61F-9C94DB9B9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677C-730F-4B1F-9474-0DCC08AD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81E7-8EC9-41A8-9591-E44BAB12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981D-5357-4AA0-9978-19DFF989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3B85-6044-4B6E-93F4-05A5DB6F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4CD8-3FCA-4AFA-9BC2-BB3C11DA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8099-341F-4CB6-A7C1-A4DB895A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468D-E53C-4159-B69C-08A93506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E865-9141-4430-8F27-B3EAC18B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1E77-5BAF-4536-A5F6-018EF03D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DD66-2486-4459-A49D-66C084B0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C6ED-5F21-4877-955F-EF0BECD2A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E5050-D4BA-454C-89ED-0348685D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7C05-11A4-4057-BFF6-DC447D6D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1BAA-1F91-48E1-B49F-0DF77EC4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4429-3A45-45FC-9B08-9A8D5232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1E0E-FE21-4DBB-B043-6ED74385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A46B-D297-467F-A715-184CA3C5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6F30-F3B1-49BE-B7A4-416B4DC1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2D77-FC9A-4B29-81D6-B062C027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7AD3-523D-4C8A-B032-B6F0D26B929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39BA-66E6-4B6F-8DC7-02EC639E005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1-01-29T05:53:42Z</dcterms:modified>
  <cp:revision>46</cp:revision>
  <dc:subject/>
  <dc:title>Структура собственных доходов на 2016 год бюджета Дальнереченского городского округа</dc:title>
</cp:coreProperties>
</file>